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55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4020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8200" y="693720"/>
            <a:ext cx="46177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7D20-A103-4465-A7AC-5AD69857A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to ice bath—new year (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unday of each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76C4-6908-4842-BB7F-1AE9131D3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B6B0-DDC8-4BCA-9008-529BAA2E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0080-F8B0-493D-9252-49204203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2C83-7BB1-4C81-9C6B-82ED05BA4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5DD4-EF93-4981-8B0D-5FB2CD27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CB3A-2A1C-4763-AD0E-E440920F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BA70-830E-44D4-8105-9A31FDE7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15BE-42A9-42AF-9B23-DFB75DE2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C2B1-FED5-4E4F-927E-3C5DD6E4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0D49-924F-4A03-AF2F-D6207E03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601E-AD04-4394-8AA6-D38269AE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F626-4F3C-4205-B518-F8A7813D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A432-5B92-4710-80EE-821B0F48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 Na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A377-A129-4E98-8CA4-DE8AB04C9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4545000" cy="26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Japan’s Feudal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4495680"/>
            <a:ext cx="6858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ta World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.____,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https://upload.wikimedia.org/wikipedia/commons/a/a6/Samurai_on_horseback0.jpg"/>
          <p:cNvPicPr/>
          <p:nvPr/>
        </p:nvPicPr>
        <p:blipFill>
          <a:blip r:embed="rId1"/>
          <a:stretch/>
        </p:blipFill>
        <p:spPr>
          <a:xfrm>
            <a:off x="5052960" y="1066680"/>
            <a:ext cx="379260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gr1-dun"/>
          <p:cNvPicPr/>
          <p:nvPr/>
        </p:nvPicPr>
        <p:blipFill>
          <a:blip r:embed="rId1"/>
          <a:stretch/>
        </p:blipFill>
        <p:spPr>
          <a:xfrm>
            <a:off x="0" y="685800"/>
            <a:ext cx="7229520" cy="54198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5079960" y="762120"/>
            <a:ext cx="3664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hog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id he ru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mperor’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me.  In fac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hog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s a milit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ctator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olled Jap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aimy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imyo were Japanese lords or no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imyo had to obey the Shogun and provide military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imyo controlled large estates.  They were great landow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daimyo"/>
          <p:cNvPicPr/>
          <p:nvPr/>
        </p:nvPicPr>
        <p:blipFill>
          <a:blip r:embed="rId1"/>
          <a:stretch/>
        </p:blipFill>
        <p:spPr>
          <a:xfrm>
            <a:off x="380880" y="457200"/>
            <a:ext cx="3733920" cy="54100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4305960" y="1371600"/>
            <a:ext cx="4144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myo w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eat landow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 feudal Jap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y were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est no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to the Shogu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amur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vide military protection for their lands, Japanese daimyo recruited samur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urai were Japanese warri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urai had to provide military service and obey the Daimyo and Shog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matabeib"/>
          <p:cNvPicPr/>
          <p:nvPr/>
        </p:nvPicPr>
        <p:blipFill>
          <a:blip r:embed="rId1"/>
          <a:stretch/>
        </p:blipFill>
        <p:spPr>
          <a:xfrm>
            <a:off x="2895480" y="533520"/>
            <a:ext cx="3333960" cy="32763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1065240" y="4114800"/>
            <a:ext cx="6994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murai were Japanese warriors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y had to be loyal, brave,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arle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of Bush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urai warriors had to follow the Code of Bush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de of Bushido was similar to European chival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amurai had to be loyal to his daimyo and show no e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seppuku3"/>
          <p:cNvPicPr/>
          <p:nvPr/>
        </p:nvPicPr>
        <p:blipFill>
          <a:blip r:embed="rId1"/>
          <a:stretch/>
        </p:blipFill>
        <p:spPr>
          <a:xfrm>
            <a:off x="2666880" y="304920"/>
            <a:ext cx="3429000" cy="4267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9"/>
          <p:cNvSpPr/>
          <p:nvPr/>
        </p:nvSpPr>
        <p:spPr>
          <a:xfrm>
            <a:off x="990360" y="4800600"/>
            <a:ext cx="73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a samurai lost his honor, he h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commit ritual suicide or seppuk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for Ref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mpare and contrast Japanese and European feudalism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hy did the Japanese emperor lose his power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ho was the Shogun and why was he powerful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hat was the relationship between the Daimyo and the Shogun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for Reflec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5. Who were Samurai and what was the Code of Bushido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6. Define these term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eudalis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hogu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aimy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amura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de of Bushid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https://ssl.c.photoshelter.com/img-get/I0000FJBCcdMkfW0/s/500/aflo-vvna-kandashrineicebath5309.jpg"/>
          <p:cNvPicPr/>
          <p:nvPr/>
        </p:nvPicPr>
        <p:blipFill>
          <a:blip r:embed="rId1"/>
          <a:stretch/>
        </p:blipFill>
        <p:spPr>
          <a:xfrm>
            <a:off x="3257640" y="2913120"/>
            <a:ext cx="5898960" cy="39402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http://antarapos.com/en/images/news_images_upload/content/Japan_Ice_New_Year.jpg"/>
          <p:cNvPicPr/>
          <p:nvPr/>
        </p:nvPicPr>
        <p:blipFill>
          <a:blip r:embed="rId2"/>
          <a:stretch/>
        </p:blipFill>
        <p:spPr>
          <a:xfrm>
            <a:off x="22320" y="-228600"/>
            <a:ext cx="594360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750x750_japan_m"/>
          <p:cNvPicPr/>
          <p:nvPr/>
        </p:nvPicPr>
        <p:blipFill>
          <a:blip r:embed="rId1"/>
          <a:stretch/>
        </p:blipFill>
        <p:spPr>
          <a:xfrm>
            <a:off x="1143000" y="152280"/>
            <a:ext cx="6800760" cy="52578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1293480" y="5486400"/>
            <a:ext cx="663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pan is an archipelago in As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s. Barroso wants her students to write an essay about what they’ve learned about Japan and Europe. She’s having trouble coming up with a good essay question though!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elp her! Pleas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 up with a good essay question asking students to show what they know about Japan and/or Europe’s history during Era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s. Barroso wants her students to write an essay about what they’ve learned about Japan and Europe. She’s having trouble coming up with a good essay question though!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lp her! Pleas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 up with a good essay question asking students to show what they know about Japan and/or Europe’s history during Era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eta Essay Prompt Cho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28600" y="1417320"/>
            <a:ext cx="87631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Explain the difference between Japan and Europe during Era 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f you were sent back in time, would you rather live in Japan or Europe during Era 1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What would Japan have looked like under Christianity, and what would Europe have looked like under Shintoism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mperor Loses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e 1100s, the emperor of Japan’s power was greatly weakened by civil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ble families refused to pay taxes to the emperor.  They grew rich and bought much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ually, one noble family grew more powerful than any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kendo"/>
          <p:cNvPicPr/>
          <p:nvPr/>
        </p:nvPicPr>
        <p:blipFill>
          <a:blip r:embed="rId1"/>
          <a:stretch/>
        </p:blipFill>
        <p:spPr>
          <a:xfrm>
            <a:off x="2057400" y="304920"/>
            <a:ext cx="5105520" cy="4267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913320" y="4648320"/>
            <a:ext cx="72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ble families did not want to ob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mperor.  They wanted pow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07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remember European feudalis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s://mrgrayhistory.wikispaces.com/file/view/E_Middle_Ages_-_Japan.JPG/244140813/893x522/E_Middle_Ages_-_Japan.JPG"/>
          <p:cNvPicPr/>
          <p:nvPr/>
        </p:nvPicPr>
        <p:blipFill>
          <a:blip r:embed="rId1"/>
          <a:stretch/>
        </p:blipFill>
        <p:spPr>
          <a:xfrm>
            <a:off x="914400" y="1905120"/>
            <a:ext cx="735156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eudalism in Japan and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710240" y="1984320"/>
            <a:ext cx="3868560" cy="61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52360" y="1984320"/>
            <a:ext cx="3888000" cy="61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2.bp.blogspot.com/-Mz_Xz_Mf8v8/UAy5hUaFqQI/AAAAAAAABdE/a7mI9xgbMi0/s1600/Bodiam%2BCastle.jpg"/>
          <p:cNvPicPr/>
          <p:nvPr/>
        </p:nvPicPr>
        <p:blipFill>
          <a:blip r:embed="rId1"/>
          <a:stretch/>
        </p:blipFill>
        <p:spPr>
          <a:xfrm>
            <a:off x="4724280" y="2895480"/>
            <a:ext cx="4191120" cy="3270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www.happybirthdaywishesimages.com/wp-content/uploads/2013/01/Himeji-Castle.jpg"/>
          <p:cNvPicPr/>
          <p:nvPr/>
        </p:nvPicPr>
        <p:blipFill>
          <a:blip r:embed="rId2"/>
          <a:stretch/>
        </p:blipFill>
        <p:spPr>
          <a:xfrm>
            <a:off x="228600" y="2895480"/>
            <a:ext cx="42670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ud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ystem of feudalism, similar to that found in European feudalism, arose in Jap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feudal society, land is exchanged for military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panese lords gave away some of their land to other people in exchange for loyalty and military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http://gcuonline.georgian.edu/wootton_l/Medieval_files/image004.gif"/>
          <p:cNvPicPr/>
          <p:nvPr/>
        </p:nvPicPr>
        <p:blipFill>
          <a:blip r:embed="rId1"/>
          <a:stretch/>
        </p:blipFill>
        <p:spPr>
          <a:xfrm>
            <a:off x="766800" y="2125800"/>
            <a:ext cx="3594240" cy="36860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eud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0840" y="1844640"/>
            <a:ext cx="3868560" cy="61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8880" y="1892160"/>
            <a:ext cx="3887640" cy="61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s://the24hourtala.files.wordpress.com/2011/03/feudal2.gif"/>
          <p:cNvPicPr/>
          <p:nvPr/>
        </p:nvPicPr>
        <p:blipFill>
          <a:blip r:embed="rId2"/>
          <a:stretch/>
        </p:blipFill>
        <p:spPr>
          <a:xfrm>
            <a:off x="5267160" y="1838160"/>
            <a:ext cx="345924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hog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ader of Japan’s most powerful family forced the emperor to appoint him shog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d “Shogun” means “great general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next 700 years, powerful shoguns governed Jap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11:43Z</dcterms:created>
  <dc:creator>White Plains City School District</dc:creator>
  <dc:description/>
  <dc:language>en-US</dc:language>
  <cp:lastModifiedBy>Elaina Barroso</cp:lastModifiedBy>
  <cp:lastPrinted>2017-12-13T16:47:46Z</cp:lastPrinted>
  <dcterms:modified xsi:type="dcterms:W3CDTF">2017-12-13T20:58:52Z</dcterms:modified>
  <cp:revision>14</cp:revision>
  <dc:subject/>
  <dc:title>Japan’s Feudal Period</dc:title>
</cp:coreProperties>
</file>